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ct" ContentType="image/x-pict"/>
  <Override PartName="/ppt/media/image4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0" cy="27432000"/>
  <p:notesSz cx="26974800" cy="36118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7B6-567C-4000-8A99-2BBF491C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F18-9C7F-4634-879F-910942E4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565-93F3-406E-9E54-02F24D35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856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8832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856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8832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E27-B131-4F54-9290-02F25F0C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437-8C17-4842-BDF1-F7A63F65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87D-F08D-45A7-B77C-CAD8438B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1CBA-7E93-45CF-ACAE-CBFFEA7A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6B4-267A-45B3-A55A-B63B530F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1098720"/>
            <a:ext cx="329184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0AD-245C-4F48-8979-E9FA9A6E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A77-B20E-466D-972E-ADEA682E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AD8-9716-4137-9283-53FAAD67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F857-476F-4C58-A911-F3186251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1" marL="2971800" indent="-11430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2" marL="4572000" indent="-9144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3" marL="6400800" indent="-9144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4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5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6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2498076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6680" y="24980760"/>
            <a:ext cx="1158264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ct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12320" y="2498076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657600"/>
                <a:tab algn="l" pos="7315200"/>
              </a:tabLst>
            </a:pPr>
            <a:fld id="{03847A57-3990-4F6E-981D-7F07FD604867}" type="slidenum">
              <a:rPr b="0" lang="en-US" sz="5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.pct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pct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.pct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36576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Chat: A Group Communication Service Over Wireless Sensor Networ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657600"/>
                <a:tab algn="l" pos="7315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i Sun, Chien-Liang Fok, Gruia-Catalin Roma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shington University in St. Lo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6212680"/>
            <a:ext cx="350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research was supported by the NSF under NOSS grant CNS-052022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9068040" cy="13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25450920" y="1676520"/>
          <a:ext cx="11062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50920" y="1676520"/>
                    <a:ext cx="1106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6669880" y="2514600"/>
            <a:ext cx="9753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w Cen MT"/>
              </a:rPr>
              <a:t>Mobile Computing Laborator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419720"/>
            <a:ext cx="102106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791320"/>
            <a:ext cx="1013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ireless sensornets are more robust and less likely to fail in disaster scenari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y can serve as an alternative medium through which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cuers can communic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043928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1781000"/>
            <a:ext cx="84582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ensornet is initially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loyed for some other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urpose (e.g., environmental monitoring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rs (rescuers) must remain in contact with each other while continuously moving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mited re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mbership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nreliable wireless link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460200" y="19159560"/>
            <a:ext cx="114300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oin - Member agents can join a specific group to exchange messages within the group.  A group is formed when the first member joins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ve -  A member agent can leave a specific group to stop sending or receiving messages within the group.  A group is disbanded when the last member leave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nd - Member agents can send messages that will be forwarded to all the other members in the same group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079320" y="4343400"/>
            <a:ext cx="11658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215760" y="5622840"/>
            <a:ext cx="112935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mplement the group communication service on top of </a:t>
            </a: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Agilla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, a mobile agent middleware for sensorne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ach user has a </a:t>
            </a: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member agen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in the network that “follows” the user and handles communication between the user and the gro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56840" y="23012280"/>
            <a:ext cx="30826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456840" y="24231600"/>
            <a:ext cx="3082680" cy="561960"/>
          </a:xfrm>
          <a:prstGeom prst="rect">
            <a:avLst/>
          </a:prstGeom>
          <a:solidFill>
            <a:srgbClr val="f8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75840" y="208630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(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23640" y="23106240"/>
            <a:ext cx="1249200" cy="56340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pl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539280" y="23106240"/>
            <a:ext cx="1333080" cy="563040"/>
            <a:chOff x="9539280" y="23106240"/>
            <a:chExt cx="1333080" cy="563040"/>
          </a:xfrm>
        </p:grpSpPr>
        <p:sp>
          <p:nvSpPr>
            <p:cNvPr id="59" name=""/>
            <p:cNvSpPr/>
            <p:nvPr/>
          </p:nvSpPr>
          <p:spPr>
            <a:xfrm>
              <a:off x="9539280" y="23106240"/>
              <a:ext cx="1333080" cy="563040"/>
            </a:xfrm>
            <a:prstGeom prst="verticalScroll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623880" y="23207760"/>
              <a:ext cx="99288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9372600" y="21231360"/>
            <a:ext cx="3251160" cy="42195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878040" y="2377440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456840" y="24793560"/>
            <a:ext cx="3082680" cy="563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A2 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459000" y="2124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1706120" y="21699360"/>
            <a:ext cx="833040" cy="1312560"/>
            <a:chOff x="11706120" y="21699360"/>
            <a:chExt cx="833040" cy="1312560"/>
          </a:xfrm>
        </p:grpSpPr>
        <p:sp>
          <p:nvSpPr>
            <p:cNvPr id="66" name=""/>
            <p:cNvSpPr/>
            <p:nvPr/>
          </p:nvSpPr>
          <p:spPr>
            <a:xfrm>
              <a:off x="1170612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>
            <a:off x="11955960" y="21886560"/>
            <a:ext cx="348840" cy="965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96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" name=""/>
          <p:cNvGrpSpPr/>
          <p:nvPr/>
        </p:nvGrpSpPr>
        <p:grpSpPr>
          <a:xfrm>
            <a:off x="10956960" y="21699360"/>
            <a:ext cx="833040" cy="1312560"/>
            <a:chOff x="10956960" y="21699360"/>
            <a:chExt cx="833040" cy="1312560"/>
          </a:xfrm>
        </p:grpSpPr>
        <p:sp>
          <p:nvSpPr>
            <p:cNvPr id="70" name=""/>
            <p:cNvSpPr/>
            <p:nvPr/>
          </p:nvSpPr>
          <p:spPr>
            <a:xfrm>
              <a:off x="1095696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11206800" y="21886560"/>
            <a:ext cx="348840" cy="965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20680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" name=""/>
          <p:cNvGrpSpPr/>
          <p:nvPr/>
        </p:nvGrpSpPr>
        <p:grpSpPr>
          <a:xfrm>
            <a:off x="10206000" y="21699360"/>
            <a:ext cx="833040" cy="1312560"/>
            <a:chOff x="10206000" y="21699360"/>
            <a:chExt cx="833040" cy="1312560"/>
          </a:xfrm>
        </p:grpSpPr>
        <p:sp>
          <p:nvSpPr>
            <p:cNvPr id="74" name=""/>
            <p:cNvSpPr/>
            <p:nvPr/>
          </p:nvSpPr>
          <p:spPr>
            <a:xfrm>
              <a:off x="1020600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5" name=""/>
            <p:cNvGraphicFramePr/>
            <p:nvPr/>
          </p:nvGraphicFramePr>
          <p:xfrm>
            <a:off x="10455840" y="21886560"/>
            <a:ext cx="348840" cy="965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045584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" name=""/>
          <p:cNvGrpSpPr/>
          <p:nvPr/>
        </p:nvGrpSpPr>
        <p:grpSpPr>
          <a:xfrm>
            <a:off x="9456840" y="21699360"/>
            <a:ext cx="833040" cy="1312560"/>
            <a:chOff x="9456840" y="21699360"/>
            <a:chExt cx="833040" cy="1312560"/>
          </a:xfrm>
        </p:grpSpPr>
        <p:sp>
          <p:nvSpPr>
            <p:cNvPr id="78" name=""/>
            <p:cNvSpPr/>
            <p:nvPr/>
          </p:nvSpPr>
          <p:spPr>
            <a:xfrm>
              <a:off x="945684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9706680" y="21886560"/>
            <a:ext cx="348840" cy="9651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970668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14206680" y="23012280"/>
            <a:ext cx="30844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206680" y="24231600"/>
            <a:ext cx="3084480" cy="561960"/>
          </a:xfrm>
          <a:prstGeom prst="rect">
            <a:avLst/>
          </a:prstGeom>
          <a:solidFill>
            <a:srgbClr val="f8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960960" y="207691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(2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373360" y="23106240"/>
            <a:ext cx="1250640" cy="56340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pl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925680" y="23088600"/>
            <a:ext cx="1333440" cy="563040"/>
            <a:chOff x="15925680" y="23088600"/>
            <a:chExt cx="1333440" cy="563040"/>
          </a:xfrm>
        </p:grpSpPr>
        <p:sp>
          <p:nvSpPr>
            <p:cNvPr id="86" name=""/>
            <p:cNvSpPr/>
            <p:nvPr/>
          </p:nvSpPr>
          <p:spPr>
            <a:xfrm>
              <a:off x="15925680" y="23088600"/>
              <a:ext cx="1333440" cy="563040"/>
            </a:xfrm>
            <a:prstGeom prst="verticalScroll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009560" y="23190120"/>
              <a:ext cx="104328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4123880" y="21231360"/>
            <a:ext cx="3249720" cy="42195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623920" y="2376324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206680" y="24793560"/>
            <a:ext cx="3084480" cy="563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A2 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208840" y="2124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457760" y="21699360"/>
            <a:ext cx="833040" cy="1312560"/>
            <a:chOff x="16457760" y="21699360"/>
            <a:chExt cx="833040" cy="1312560"/>
          </a:xfrm>
        </p:grpSpPr>
        <p:sp>
          <p:nvSpPr>
            <p:cNvPr id="93" name=""/>
            <p:cNvSpPr/>
            <p:nvPr/>
          </p:nvSpPr>
          <p:spPr>
            <a:xfrm>
              <a:off x="1645776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16707600" y="21886560"/>
            <a:ext cx="348840" cy="9651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670760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6" name=""/>
          <p:cNvGrpSpPr/>
          <p:nvPr/>
        </p:nvGrpSpPr>
        <p:grpSpPr>
          <a:xfrm>
            <a:off x="15706800" y="21699360"/>
            <a:ext cx="833040" cy="1312560"/>
            <a:chOff x="15706800" y="21699360"/>
            <a:chExt cx="833040" cy="1312560"/>
          </a:xfrm>
        </p:grpSpPr>
        <p:sp>
          <p:nvSpPr>
            <p:cNvPr id="97" name=""/>
            <p:cNvSpPr/>
            <p:nvPr/>
          </p:nvSpPr>
          <p:spPr>
            <a:xfrm>
              <a:off x="1570680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15956640" y="21886560"/>
            <a:ext cx="348840" cy="9651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595664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" name=""/>
          <p:cNvGrpSpPr/>
          <p:nvPr/>
        </p:nvGrpSpPr>
        <p:grpSpPr>
          <a:xfrm>
            <a:off x="14957280" y="21699360"/>
            <a:ext cx="833400" cy="1312560"/>
            <a:chOff x="14957280" y="21699360"/>
            <a:chExt cx="833400" cy="1312560"/>
          </a:xfrm>
        </p:grpSpPr>
        <p:sp>
          <p:nvSpPr>
            <p:cNvPr id="101" name=""/>
            <p:cNvSpPr/>
            <p:nvPr/>
          </p:nvSpPr>
          <p:spPr>
            <a:xfrm>
              <a:off x="14957280" y="21699360"/>
              <a:ext cx="83340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15207120" y="21886560"/>
            <a:ext cx="348840" cy="9651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1520712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" name=""/>
          <p:cNvGrpSpPr/>
          <p:nvPr/>
        </p:nvGrpSpPr>
        <p:grpSpPr>
          <a:xfrm>
            <a:off x="14206680" y="21699360"/>
            <a:ext cx="833040" cy="1312560"/>
            <a:chOff x="14206680" y="21699360"/>
            <a:chExt cx="833040" cy="1312560"/>
          </a:xfrm>
        </p:grpSpPr>
        <p:sp>
          <p:nvSpPr>
            <p:cNvPr id="105" name=""/>
            <p:cNvSpPr/>
            <p:nvPr/>
          </p:nvSpPr>
          <p:spPr>
            <a:xfrm>
              <a:off x="1420668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14456520" y="21886560"/>
            <a:ext cx="348840" cy="9651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445652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"/>
          <p:cNvGrpSpPr/>
          <p:nvPr/>
        </p:nvGrpSpPr>
        <p:grpSpPr>
          <a:xfrm>
            <a:off x="12165120" y="20602440"/>
            <a:ext cx="418320" cy="628560"/>
            <a:chOff x="12165120" y="20602440"/>
            <a:chExt cx="418320" cy="628560"/>
          </a:xfrm>
        </p:grpSpPr>
        <p:sp>
          <p:nvSpPr>
            <p:cNvPr id="109" name=""/>
            <p:cNvSpPr/>
            <p:nvPr/>
          </p:nvSpPr>
          <p:spPr>
            <a:xfrm>
              <a:off x="12372840" y="20855160"/>
              <a:ext cx="0" cy="375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2165120" y="20602440"/>
              <a:ext cx="418320" cy="462240"/>
              <a:chOff x="12165120" y="20602440"/>
              <a:chExt cx="418320" cy="462240"/>
            </a:xfrm>
          </p:grpSpPr>
          <p:sp>
            <p:nvSpPr>
              <p:cNvPr id="111" name=""/>
              <p:cNvSpPr/>
              <p:nvPr/>
            </p:nvSpPr>
            <p:spPr>
              <a:xfrm>
                <a:off x="12334320" y="20790360"/>
                <a:ext cx="83160" cy="93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251520" y="20696400"/>
                <a:ext cx="245520" cy="27396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165120" y="20602440"/>
                <a:ext cx="418320" cy="46224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14123880" y="20574000"/>
            <a:ext cx="418320" cy="626760"/>
            <a:chOff x="14123880" y="20574000"/>
            <a:chExt cx="418320" cy="626760"/>
          </a:xfrm>
        </p:grpSpPr>
        <p:sp>
          <p:nvSpPr>
            <p:cNvPr id="115" name=""/>
            <p:cNvSpPr/>
            <p:nvPr/>
          </p:nvSpPr>
          <p:spPr>
            <a:xfrm>
              <a:off x="14331600" y="20826000"/>
              <a:ext cx="0" cy="37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4123880" y="20574000"/>
              <a:ext cx="418320" cy="460800"/>
              <a:chOff x="14123880" y="20574000"/>
              <a:chExt cx="418320" cy="460800"/>
            </a:xfrm>
          </p:grpSpPr>
          <p:sp>
            <p:nvSpPr>
              <p:cNvPr id="117" name=""/>
              <p:cNvSpPr/>
              <p:nvPr/>
            </p:nvSpPr>
            <p:spPr>
              <a:xfrm>
                <a:off x="14293080" y="20761200"/>
                <a:ext cx="83160" cy="936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210280" y="20667600"/>
                <a:ext cx="245520" cy="27324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123880" y="20574000"/>
                <a:ext cx="418320" cy="46080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2623760" y="20573640"/>
            <a:ext cx="1415880" cy="187200"/>
            <a:chOff x="12623760" y="20573640"/>
            <a:chExt cx="1415880" cy="187200"/>
          </a:xfrm>
        </p:grpSpPr>
        <p:sp>
          <p:nvSpPr>
            <p:cNvPr id="121" name=""/>
            <p:cNvSpPr/>
            <p:nvPr/>
          </p:nvSpPr>
          <p:spPr>
            <a:xfrm flipV="1">
              <a:off x="12623760" y="20573640"/>
              <a:ext cx="33264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56400" y="20574000"/>
              <a:ext cx="3333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3290120" y="20573640"/>
              <a:ext cx="4161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706280" y="20574000"/>
              <a:ext cx="3333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2706200" y="21605760"/>
            <a:ext cx="1333800" cy="187560"/>
          </a:xfrm>
          <a:custGeom>
            <a:avLst/>
            <a:gdLst/>
            <a:ahLst/>
            <a:rect l="l" t="t" r="r" b="b"/>
            <a:pathLst>
              <a:path w="864" h="96">
                <a:moveTo>
                  <a:pt x="0" y="96"/>
                </a:moveTo>
                <a:cubicBezTo>
                  <a:pt x="144" y="48"/>
                  <a:pt x="288" y="0"/>
                  <a:pt x="432" y="0"/>
                </a:cubicBezTo>
                <a:cubicBezTo>
                  <a:pt x="576" y="0"/>
                  <a:pt x="720" y="48"/>
                  <a:pt x="864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14640" y="2165184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i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956840" y="2254392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957200" y="22543920"/>
            <a:ext cx="0" cy="84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2372480" y="233870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7120" y="22731480"/>
            <a:ext cx="91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mo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0421720"/>
            <a:ext cx="8610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bile agent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ve and clone across no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be dynamically inject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mplifies develop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igh-level agent abstr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ext discove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-hop geographic greedy rou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460200" y="15011280"/>
            <a:ext cx="1120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he leader agen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keeps track of member locations and distributes group broadcast messa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he registry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eeps track of leader loc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383880" y="18013320"/>
            <a:ext cx="113540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upported Opera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900404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78520" y="21869280"/>
            <a:ext cx="6629400" cy="39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&lt;“mbr”, enumerator, agent id, location&g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7960" indent="-457200"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Enumerator: iterative access for broadca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507960" indent="-457200"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gent id: random access for member location updat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455640" y="247698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79920" y="9725040"/>
            <a:ext cx="7086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en a user moves, it “drags” its member to its new location.  Member updates its new location with leader when it is dragged.  User injects a new member if it fails to drag its old member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754480" y="20650320"/>
            <a:ext cx="6705720" cy="93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Leader Tuplespac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067680" y="4800600"/>
          <a:ext cx="19812240" cy="14814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067680" y="4800600"/>
                    <a:ext cx="19812240" cy="148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5:07:15Z</dcterms:created>
  <dc:creator>Liang</dc:creator>
  <dc:description/>
  <dc:language>en-US</dc:language>
  <cp:lastModifiedBy>Office 2004 Test Drive User</cp:lastModifiedBy>
  <dcterms:modified xsi:type="dcterms:W3CDTF">2007-04-25T22:55:18Z</dcterms:modified>
  <cp:revision>74</cp:revision>
  <dc:subject/>
  <dc:title>Slide 1</dc:title>
</cp:coreProperties>
</file>